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B831-105B-47B3-A4A2-9ECCDD1C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206B-D3D4-40F4-AC48-B40A11A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49B6-9BE1-404A-8617-DE23A16C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44B9-DA9B-4A57-B71F-8CB7A0CF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C00A-27C3-41DB-ADE0-CB7746BF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5E9-9624-47C3-B38A-B2E0AEB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FEAD-1FB7-4671-86DD-BFA6C1B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4DFD-AD3F-4E0A-B203-6E19A669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B88-2DCC-4405-89C9-9A84A955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88CE-183B-4245-A708-5203219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F833-E011-43DC-BCFE-A228309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F838-0B22-4B3E-8670-D1620AC7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D9A2-79E7-462C-A470-A3D24FE8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315D-7811-4A05-ACC4-7446DAA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AD7A-25C9-4EEE-92EB-D11277D2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24E4-A7DB-4F6D-A30C-B787FCE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38D-911A-4A45-A867-E883F758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FFC5-32E4-4CC1-A1CD-13C52740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917E-A976-4E2D-BDA6-401CB8F0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52AA-BD95-4A03-B26B-64AFA44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C370-F4A1-4F44-941E-4508A910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DA14-270D-40CD-B628-5B61199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D5DF-B21F-4B0F-971D-1C091A6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444F-B1CA-4A00-9849-C83A568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62E-C57C-4686-A8C6-84679E6DE8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2913-9034-4436-BEDC-34CC7B926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ubbu.com/" TargetMode="External"/><Relationship Id="rId3" Type="http://schemas.openxmlformats.org/officeDocument/2006/relationships/hyperlink" Target="http://www.kubbu.com/" TargetMode="External"/><Relationship Id="rId4" Type="http://schemas.openxmlformats.org/officeDocument/2006/relationships/hyperlink" Target="http://www.kubbu.com/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75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εφαρμογή που χρησιμοποιήσαμε είναι το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BBU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. Είναι  μια εφαρμογή που χρησιμεύει στην δημιουργία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αυρολέξων κ.τ.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02614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ρχικά, πρέπει να δημιουργήσετε  έναν λογαριασμό στο </a:t>
            </a:r>
            <a:r>
              <a:rPr b="0" lang="el-GR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</a:t>
            </a:r>
            <a:r>
              <a:rPr b="0" lang="el-GR" sz="32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//</a:t>
            </a:r>
            <a:r>
              <a:rPr b="0" lang="el-GR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www.kubbu.com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ετά, πατήστε  στο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ι μετά διαλέξτε τον τύπο εργασίας που θέλετε  να φτιάξετ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ην συνέχεια ορίστε κάποιους συντελεστέ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έλος,  μπορείτε να το εκτυπώσετ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2960" y="-51440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πρόγραμμα αυτό μπορεί  να χρησιμοποιηθεί κυρίως από τους καθηγητές στην εκπαιδευτική διαδικασία ως βοήθημα στο εκπαιδευτικό έργο τους ( διαγωνίσματα 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0:44:00Z</dcterms:created>
  <dc:creator>Μαθητής Β' Λυκείου</dc:creator>
  <dc:description/>
  <dc:language>en-US</dc:language>
  <cp:lastModifiedBy>Μαθητής Β' Λυκείου</cp:lastModifiedBy>
  <dcterms:modified xsi:type="dcterms:W3CDTF">2014-01-22T10:12:23Z</dcterms:modified>
  <cp:revision>3</cp:revision>
  <dc:subject/>
  <dc:title>Διαφάνεια 1</dc:title>
</cp:coreProperties>
</file>